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A9BB8-E511-498E-8045-8424E466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1DAD-2F3F-4F11-A368-A47DC32B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BD301-AC42-4542-984E-837CD687E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9C7BD-AC0D-404E-BA25-B6095ECB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84B42-AF8E-4E77-B8A9-41886E42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0EFB-21EC-4B13-8840-0D1507EF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0F46-9615-4F5A-931F-DFF4CDB8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9B07-DE26-4A1F-AE1D-8EE856C7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4B8D6-F79B-4A22-BC36-0E8E87F8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4481-ED4A-4FBB-AD47-B1FD290E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505B-D356-442F-ADE7-81EF6281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DBF4-D4EB-4CD4-A90C-127A5EE3F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4A40-FFC9-4D2F-BE1D-D3D8F714477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BD3BA856-C58D-4771-867B-7BBF6623F12E}" type="datetime2">
              <a:rPr b="0" lang="en-GB" sz="4000" spc="-1" strike="noStrike" u="sng">
                <a:solidFill>
                  <a:srgbClr val="000000"/>
                </a:solidFill>
                <a:uFillTx/>
                <a:latin typeface="Arial"/>
                <a:ea typeface="Verdana"/>
              </a:rPr>
              <a:t>Thursday 30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